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8800" y="42570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312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756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596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880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756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596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FB5-54DB-4458-8B6A-013453EF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A23-41FB-4DF2-BA1D-FDE3911C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E06-5396-4C7F-9A2C-EE81F53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903-5464-4337-BC00-FD1C31D9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F2E-3A28-4678-B346-64F68AAC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20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20C-F20C-4137-BD26-FC509E6A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182-A0F8-4FED-AB08-AD3C56E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312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67F-6437-4A2B-8187-0CF355F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BA8-6DF3-460B-8669-B55AC16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42570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66B-B7FF-4161-A6F4-21DEF15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4312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07-D9A1-4EFC-B6AD-2544E4F5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4756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65960" y="18288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4756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65960" y="4257000"/>
            <a:ext cx="22078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911-A74C-4FC9-B06B-62F00DD8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20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3120" y="42570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3120" y="1828800"/>
            <a:ext cx="33465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800" y="4257000"/>
            <a:ext cx="6858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7" name="Picture 14" descr="job_bg"/>
          <p:cNvPicPr/>
          <p:nvPr/>
        </p:nvPicPr>
        <p:blipFill>
          <a:blip r:embed="rId2"/>
          <a:stretch/>
        </p:blipFill>
        <p:spPr>
          <a:xfrm>
            <a:off x="0" y="-9360"/>
            <a:ext cx="94284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5" name="Freeform 2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0784-1212-40ED-9AF1-EDA6662D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et-temps.com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" descr="job_tit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"/>
          <p:cNvSpPr/>
          <p:nvPr/>
        </p:nvSpPr>
        <p:spPr>
          <a:xfrm>
            <a:off x="7688160" y="5089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typically used for jobs where high degrees of stress will be encountered regularly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interviewers sometimes rely upon rudeness, sarcasm, or outright hostility to provoke a response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interviewer’s main goals are to: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assess how well interviewee deals with unexpected and/or stressful situations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evaluate how well interviewee can work and communicate under pressure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41920" y="533520"/>
            <a:ext cx="55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Interviews: Stress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tress_icon"/>
          <p:cNvPicPr/>
          <p:nvPr/>
        </p:nvPicPr>
        <p:blipFill>
          <a:blip r:embed="rId1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and Resear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search the field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search the employer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search the job, team, and contex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119" name="Picture 4" descr="thinking_icon"/>
          <p:cNvPicPr/>
          <p:nvPr/>
        </p:nvPicPr>
        <p:blipFill>
          <a:blip r:embed="rId1"/>
          <a:stretch/>
        </p:blipFill>
        <p:spPr>
          <a:xfrm>
            <a:off x="7848720" y="548640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explore different branche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review trade journals/magazine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ssess various career path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know the major player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be familiar with current trend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goals are to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be informed about who you are professionally (and what professional community you are entering)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be able to talk widely and wisely about trends, techniques, and tasks performed by professionals within different facets of your field 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and Resear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4800" y="1143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the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review annual reports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read the organization’s mission statement and philosophy documents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research the organization history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familiarize yourself with the organizational scheme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look for recent performance markers or success indicators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goals are to: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familiarize yourself with what the organization does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familiarize yourself with what workers in the organization do, write, produce, create, etc.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assess how the particular job for which you’re interviewing fits into the bigger organizational picture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get a sense of the key players in and key outcomes of the organization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880aa"/>
                </a:solidFill>
                <a:latin typeface="Arial"/>
              </a:rPr>
              <a:t>develop a strong sense of what they might seek in an employee</a:t>
            </a:r>
            <a:endParaRPr b="0" lang="en-US" sz="17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06668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and Resear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6240" y="1143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the Emplo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review the original job post/call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research the “jobs” or “employment” area of the organization’s web site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make contact and try to get a stronger sense of the specific job responsibilitie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your possible role in relation to the team, unit, or division you would work i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find out who you would report to 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how success is evaluated and rewarded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66680" y="-7632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and Resear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44440" y="762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the Job, Team, and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tairs_icon"/>
          <p:cNvPicPr/>
          <p:nvPr/>
        </p:nvPicPr>
        <p:blipFill>
          <a:blip r:embed="rId1"/>
          <a:stretch/>
        </p:blipFill>
        <p:spPr>
          <a:xfrm>
            <a:off x="7620120" y="533412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28800" y="13716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goals are to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swer the questions you should be asking yourself (e.g., is this really a job I want? what will I gain by getting this job? what do I bring that this organization needs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become knowledgeable so that you can speak specifically as to how you fit in the job, team, and context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have a strong sense of what you will be expected to perform, and how that performance will be measured and evaluated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ddress questions like:  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what might I be asked to answer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how will they expect me to answer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how might I be expected to demonstrate what I know and what I can do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 the Int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leep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ea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choose your clothes the night befor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prepare the materials you want to bring with you—ideally, this is done long before the interview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133" name="Picture 4" descr="stress_icon_2"/>
          <p:cNvPicPr/>
          <p:nvPr/>
        </p:nvPicPr>
        <p:blipFill>
          <a:blip r:embed="rId1"/>
          <a:stretch/>
        </p:blipFill>
        <p:spPr>
          <a:xfrm>
            <a:off x="1219320" y="1219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types of materials would you want to bring to a job interview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Letter of Introduction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sum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Work Sample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Letter of Recommendation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ting Introduc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prepare and practice a two-minute introduction: “I am… I am interested in…”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prepare to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demonstrate knowledge about the employer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express enthusiasm and interes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late your background to the company’s need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cipating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ell me about yourself.”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7880aa"/>
                </a:solidFill>
                <a:latin typeface="Arial"/>
              </a:rPr>
              <a:t>Hint: They’re not asking for your life </a:t>
            </a:r>
            <a:r>
              <a:rPr b="0" i="1" lang="en-US" sz="2400" spc="-1" strike="noStrike">
                <a:solidFill>
                  <a:srgbClr val="7880a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7880a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7880aa"/>
                </a:solidFill>
                <a:latin typeface="Arial"/>
              </a:rPr>
              <a:t>story, and it’s not a trick question…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interviewer is looking for: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a brief statement of your professional status and career objectiv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ome detail about your progression to this point 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some of the goals of a job intervie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o get a job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o figure out if a position is right for you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o provide potential employers with a stronger sense of why they should hire you, your skills, how you stand ou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o provide further articulation and illustration of the skills listed and experiences provided in your resum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Heuristic for Answering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identify the skill sought by the question so that you can best focus your answer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give a STAR answer: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0aa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ituation—what was the context?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0a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ask—what was the specific problem or need? 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0a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ction—what did you do? (produce, write, create, etc.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0aa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esults/resolution—what did you learn? what skills did you develop?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-15228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8800" y="22856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0aa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tuat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quickly explain the situation—what happened? who was involved (e.g., clients, coworkers, customers)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0aa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sk 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what was the particular problem that needed to be resolved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0a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ct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what specific action did you take to resolve the problem? what did you do or produce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0aa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esults/resolut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what were the results of your action? what did you take from this experience?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43000" y="838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tell me about a time from your work experience when your manager or supervisor was unavailable and a problem arose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the End of the Int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view what you’ve heard and state why you’re interested in the position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consider asking: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is there anything else I can provide—specific references or example materials?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what’s the next step in the process? when is your decision date?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how can I contact you to check my status?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147" name="Picture 5" descr="handshake_icon"/>
          <p:cNvPicPr/>
          <p:nvPr/>
        </p:nvPicPr>
        <p:blipFill>
          <a:blip r:embed="rId1"/>
          <a:stretch/>
        </p:blipFill>
        <p:spPr>
          <a:xfrm>
            <a:off x="7620120" y="55627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send a thank you email or letter after being interviewed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tailor the letter to the organization and to the interview itself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dividualize a letter slightly if you’re sending it to more than one person in the organizat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send it within 24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48 hours of the interview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goals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shows you’re courteou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differentiates you from other candidates and keeps your name in front of the potential employer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proves that you’re interested in the job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149" name="Picture 4" descr="following_up_icon"/>
          <p:cNvPicPr/>
          <p:nvPr/>
        </p:nvPicPr>
        <p:blipFill>
          <a:blip r:embed="rId1"/>
          <a:stretch/>
        </p:blipFill>
        <p:spPr>
          <a:xfrm>
            <a:off x="7543800" y="152280"/>
            <a:ext cx="1333440" cy="1308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the Int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Interview Bloop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poor handshake (limp hand, tips of fingers, arm pump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alking too much (talking too long, but not answering direct questions; nervous talking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alking negatively about current or past teams, coworkers, employers/manager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showing up late or way too early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treating the receptionist rudely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153" name="Picture 4" descr="stress_icon_2"/>
          <p:cNvPicPr/>
          <p:nvPr/>
        </p:nvPicPr>
        <p:blipFill>
          <a:blip r:embed="rId1"/>
          <a:stretch/>
        </p:blipFill>
        <p:spPr>
          <a:xfrm>
            <a:off x="7620120" y="380880"/>
            <a:ext cx="1212840" cy="12128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asking about benefits, vacation time, or salary in an initial interview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not preparing for the interview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verbal ticks (uhmmmm, like, you know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not enough/too much eye contac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996a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ailure to match communication styles (e.g., too informal, too businesslike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769644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be yourself (not who you think they want you to be)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be ready to talk about why you want the job (and think about how they might respond to your answer)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ask ahead of time the format of the interview (e.g., panel/one-on one? expected to perform a task?) 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ask about the function of your job in the larger organization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ask about how the specific position you are interviewing for fits in the larger unit/team/department </a:t>
            </a:r>
            <a:r>
              <a:rPr b="0" i="1" lang="en-US" sz="2200" spc="-1" strike="noStrike">
                <a:solidFill>
                  <a:srgbClr val="7880aa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within the larger organization.company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be prepared to actually do/perform/write a task during the interview process (e.g., writing documentation, marking up a document for editing)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ask the interview what their favorite aspect of the job is (and, perhaps, what their least favorite is)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0aa"/>
                </a:solidFill>
                <a:latin typeface="Arial"/>
              </a:rPr>
              <a:t>find out how writing is perceived and how people negotiate textual ownership issues</a:t>
            </a: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193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carefully consider who you ask which questions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take notes with you (with your ideas, goals, questions); take notes during the interview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learning opportunities and experiences </a:t>
            </a:r>
            <a:r>
              <a:rPr b="0" i="1" lang="en-US" sz="1900" spc="-1" strike="noStrike">
                <a:solidFill>
                  <a:srgbClr val="7880aa"/>
                </a:solidFill>
                <a:latin typeface="Arial"/>
              </a:rPr>
              <a:t>not, never</a:t>
            </a: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 “problems”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ask if the organization has a policy toward funding/supporting employee professional development opportunities (e.g., STC membership and conferences, further education)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stay focused (even if it’s a long interview); take notes to help stay focused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get comfortable with pauses and strategies for giving yourself a bit of time to prepare an answer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stay upbeat! (there will be painful moments—learn from them and move on)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don’t get flustered (if you can at all avoid it—and practicing really, really helps)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recognize the gatekeepers! (e.g., initial phone interview with seemingly unrelated person)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draw upon good sources of info: Business Library resources (e.g., looking up companies, looking up company news, requesting annual reports); </a:t>
            </a:r>
            <a:r>
              <a:rPr b="0" lang="en-US" sz="1900" spc="-1" strike="noStrike" u="sng">
                <a:solidFill>
                  <a:srgbClr val="474747"/>
                </a:solidFill>
                <a:uFillTx/>
                <a:latin typeface="Arial"/>
                <a:hlinkClick r:id="rId1"/>
              </a:rPr>
              <a:t>www.net-temps.com</a:t>
            </a:r>
            <a:r>
              <a:rPr b="0" lang="en-US" sz="1900" spc="-1" strike="noStrike">
                <a:solidFill>
                  <a:srgbClr val="7880aa"/>
                </a:solidFill>
                <a:latin typeface="Arial"/>
              </a:rPr>
              <a:t> (info section on latest resume advice/ideas/formats, info on job positions and requirements)</a:t>
            </a:r>
            <a:endParaRPr b="0" lang="en-US" sz="19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828800" y="36576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know that there are things </a:t>
            </a:r>
            <a:r>
              <a:rPr b="0" i="1" lang="en-US" sz="2400" spc="-1" strike="noStrike">
                <a:solidFill>
                  <a:srgbClr val="7880aa"/>
                </a:solidFill>
                <a:latin typeface="Arial"/>
              </a:rPr>
              <a:t>beyond your control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 that will affect the interview, interview situation, and what happens afterwards… (e.g., funding cut for a position; in-group dynamics; turf battles; already have a person chosen for the position but, legally, have to openly search and interview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Goals of a Job Int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Employer evaluates candidat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skills applicable to the job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competence to do the job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potential to contribute to the team/organization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ability to mesh with team’s/organization’s mission, philosophy, and environment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Candidate evaluates employer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match between interests and job tasks/work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degree of responsibility and challenge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potential for growth and further education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0aa"/>
                </a:solidFill>
                <a:latin typeface="Arial"/>
              </a:rPr>
              <a:t>ability to mesh with team’s/organization’s mission, philosophy, and environment</a:t>
            </a: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880aa"/>
              </a:solidFill>
              <a:latin typeface="Arial"/>
            </a:endParaRPr>
          </a:p>
        </p:txBody>
      </p:sp>
      <p:pic>
        <p:nvPicPr>
          <p:cNvPr id="97" name="Picture 4" descr="interview_icon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you best prepare for a job intervie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dress appropriately </a:t>
            </a:r>
            <a:r>
              <a:rPr b="0" lang="en-US" sz="2400" spc="-1" strike="noStrike">
                <a:solidFill>
                  <a:srgbClr val="7880a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 depends upon business; “dress for the job you want”; better to overdres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back up documents; e.g., writing samples, copy of resume, transcripts, other docs, references; letters of recommendation (dossier or portfolio)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research the company </a:t>
            </a:r>
            <a:r>
              <a:rPr b="0" lang="en-US" sz="2400" spc="-1" strike="noStrike">
                <a:solidFill>
                  <a:srgbClr val="7880a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google the company, talk to people about what they know, BBB, Chamber of Commerc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make sure you know how to get there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Keys to Su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understanding what to expect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preparing and researching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anticipating questions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0aa"/>
                </a:solidFill>
                <a:latin typeface="Arial"/>
              </a:rPr>
              <a:t>following up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</p:spTree>
  </p:cSld>
  <p:transition spd="med" advTm="12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What to Expe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240" y="198072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conversationa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behaviora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case or situational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0aa"/>
                </a:solidFill>
                <a:latin typeface="Arial"/>
              </a:rPr>
              <a:t>stress situation</a:t>
            </a: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360" y="11430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Intervi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343400" y="57895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996a8"/>
                </a:solidFill>
                <a:latin typeface="Arial"/>
              </a:rPr>
              <a:t>all four of these interview types can be one-on-one or might be a panel conver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81080" y="2361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typically a question-and-answer discuss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usually a relatively short interview (e.g., 1 hour)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terviewer’s main goals are to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ssess whether or not the job-seeker has the skills and abilities to perform the job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evaluate whether or not the job-seeker possesses the enthusiasm and work ethic that the employer expect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whether or not the job-seeker is a team player and will fit into the organization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0480" y="533520"/>
            <a:ext cx="72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Interviews: Conversational (Traditio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nterview_icon"/>
          <p:cNvPicPr/>
          <p:nvPr/>
        </p:nvPicPr>
        <p:blipFill>
          <a:blip r:embed="rId1"/>
          <a:stretch/>
        </p:blipFill>
        <p:spPr>
          <a:xfrm>
            <a:off x="129528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typically an assessment of past performance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terviewers will expect to hear about specific situations and/or scenario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itial questions are typically followed by follow-up question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specific, key details related to situations/scenarios are expected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terviewer’s main goals are to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ssess candidate’s behaviors and approaches by exploring specific situation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past behavior to try to predict future performance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43360" y="5335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Interviews: Behavio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primarily used by management and consulting firms to determine how well a candidate fits in a field or job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typically interviewee is provided a problem or a scenario and asked to work through it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96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interviewer’s main goals are to: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how well interviewee can identify and work through a problem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ssess problem-solving skill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evaluate tolerance for ambiguity and ability to start on task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96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0aa"/>
                </a:solidFill>
                <a:latin typeface="Arial"/>
              </a:rPr>
              <a:t>analyze communication skills</a:t>
            </a: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80aa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41200" y="5335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Interviews: Case or Situa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resentation_icon"/>
          <p:cNvPicPr/>
          <p:nvPr/>
        </p:nvPicPr>
        <p:blipFill>
          <a:blip r:embed="rId1"/>
          <a:stretch/>
        </p:blipFill>
        <p:spPr>
          <a:xfrm>
            <a:off x="7696080" y="548640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9:09:12Z</dcterms:created>
  <dc:creator/>
  <dc:description/>
  <dc:language>en-US</dc:language>
  <cp:lastModifiedBy>Bright</cp:lastModifiedBy>
  <dcterms:modified xsi:type="dcterms:W3CDTF">2013-08-22T13:19:25Z</dcterms:modified>
  <cp:revision>496</cp:revision>
  <dc:subject/>
  <dc:title>PowerPoint Presentation</dc:title>
</cp:coreProperties>
</file>